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F7344-B5EE-46E5-BA03-7B6B81FC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62507-C3D0-4CC9-92EC-3E6F3713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BCBC0-D1A1-449F-ADC2-6FB59265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96276-F0EC-42E8-BEA1-3BEF3177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3B36-210E-43D1-95EB-87F23447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B23A-5708-4232-A385-A689F90C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B296-E6D4-43A8-B0B6-BED0CF5A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8FF7-8F46-4C7C-A67C-1C20F235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AC6D-4E5A-4F48-BFFA-6C94A12A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8422-07F2-4724-82ED-951C6D54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109F-DB4A-47A4-B7C5-B044A0D5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37BAB-8751-4278-A4C4-3856F5A2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CAEC-B970-4E5D-8295-88233D69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9DCA-E63B-4027-A4B6-81A28FF2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7B16-E91C-46F6-A068-50A8B726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4182-FD92-42DE-AB81-8B4427BD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778A-01E6-4C81-8F7C-538C5B7F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901C4-EDBD-4E52-A2A1-38C5B455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8F638-D714-442D-B1A4-4DE695F7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9CBAA-90D1-4296-8B69-B6E775AD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2BB6E-544E-45CD-9CC9-DF914574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9A586-E127-4576-AE5E-24ED04EE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451D3-2632-4620-BA90-5A9E80A1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6BB87-ABC6-4FB8-8C26-6426155B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B62F-170F-48C1-A212-075C384A5C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267F-18FA-499C-9701-2E6DE60FE9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Data Stewardship &amp; Preservation Cluster Identifier Testbed Activities, Briefly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Report for the ESIP Winter 2012 Meeting in Washington DC by Nancy Hoebelheinric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ynopsis of Project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k:  explore &amp; document the operational &amp; implementation issues resulting from assignment of citable Identifiers to data content resources at both the data set and granule / component leve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data sets used:  1 photographic images, 1 MODIS time series da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far, IDs assigned for 2.5 of the 9 ID schemes evaluated in DS&amp;P cluster paper published in 2010 (DOI, ARK, PUR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ssues noted to dat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Ds need to be known, else they don’t identify (link to splash page, added to MD, etc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en should IDs as locators be assigned to the granule / component level? (anticipated citability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intenance issues, e.g.,  changes in descriptive MD that could result in changed citation, e.g. whose responsibility to make changes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mportant to evaluate services associated with each ID scheme (resolution services, MD changes, making MD available to indexing services), e.g., EZID &amp; purl.or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12:40:43Z</dcterms:created>
  <dc:creator>Stanford University Libraries</dc:creator>
  <dc:description/>
  <dc:language>en-US</dc:language>
  <cp:lastModifiedBy>Stanford University Libraries</cp:lastModifiedBy>
  <dcterms:modified xsi:type="dcterms:W3CDTF">2012-01-06T02:47:35Z</dcterms:modified>
  <cp:revision>10</cp:revision>
  <dc:subject/>
  <dc:title>Data Stewardship &amp; Preservation Cluster Identifier Testbed Activities </dc:title>
</cp:coreProperties>
</file>